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2F7-230F-4EBC-9BB4-4FC0CFBB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C1A-CBD3-4738-86C4-AD13A33F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896-52D0-4737-AAE8-C62117D8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89E-1DF7-4B63-88FC-BAC87CB8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369-E6A8-4A67-B041-4D027F84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177-1266-411A-A277-CFD463C4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193-7EEA-4311-AAE1-DF42C72D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ED9-E965-49A8-BA75-648BDD69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8DD-190B-4B65-89C0-377821D2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D7C-07F3-4C03-B847-2713BC4F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A90-93B9-4AF4-8EFD-FAC026D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087-6E9C-4249-8480-563510E6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0E04-D86E-4417-A0B6-B64BC28C0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hyperlink" Target="http://www.freeplaymusic.com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eb.mit.edu/invent/iow/apple.html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633600">
            <a:off x="2666520" y="838080"/>
            <a:ext cx="59436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pple</a:t>
            </a:r>
            <a:endParaRPr b="0" lang="en-US" sz="1800" spc="1" strike="noStrike">
              <a:ln w="2232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uter</a:t>
            </a:r>
            <a:endParaRPr b="0" lang="en-US" sz="1800" spc="1" strike="noStrike">
              <a:ln w="2232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38080"/>
            <a:ext cx="25905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Mad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October 4</a:t>
            </a:r>
            <a:r>
              <a:rPr b="0" lang="en-US" sz="2000" spc="-1" strike="noStrike" baseline="30000">
                <a:solidFill>
                  <a:srgbClr val="6699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6699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Computer #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6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7"/>
          <a:stretch/>
        </p:blipFill>
        <p:spPr>
          <a:xfrm>
            <a:off x="6781680" y="7621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15200" y="266688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2590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58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172200"/>
            <a:ext cx="3886200" cy="22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Music: Free Play Music,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Hip Hop</a:t>
            </a: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October 4</a:t>
            </a:r>
            <a:r>
              <a:rPr b="1" lang="en-US" sz="1400" spc="-1" strike="noStrike" baseline="30000">
                <a:solidFill>
                  <a:srgbClr val="339933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 2010</a:t>
            </a:r>
            <a:r>
              <a:rPr b="0" lang="en-US" sz="1400" spc="-1" strike="noStrike">
                <a:solidFill>
                  <a:srgbClr val="339933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freeplaymus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vention: Apple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pple Computer was the first huge marketed personal compu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ve Jobs didn’t want any apps. And his computer it ended up having over 1,50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 2 had colors and was in a plastic c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ventor: Steve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ve was born in San Francisco in the year 195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built the first machines to make his computers in his family garage in the year 197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made a company and built computers for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tried to invent “NeXT” but it fail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bs is the CEO of Pixar Stud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ve Jobs is also the CEO of Ap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has invented the iPod and the Macbook too.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5e76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Jobs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Jobs and Wozniak"/>
          <p:cNvPicPr/>
          <p:nvPr/>
        </p:nvPicPr>
        <p:blipFill>
          <a:blip r:embed="rId2"/>
          <a:srcRect l="23276" t="0" r="45207" b="43922"/>
          <a:stretch/>
        </p:blipFill>
        <p:spPr>
          <a:xfrm>
            <a:off x="0" y="4419720"/>
            <a:ext cx="5562720" cy="243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9480"/>
            <a:ext cx="5638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LESON-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Personal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ap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657600" y="2438280"/>
            <a:ext cx="1884240" cy="1989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3124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95460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41911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18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494e"/>
                </a:solidFill>
                <a:latin typeface="Arial"/>
              </a:rPr>
              <a:t>Mrs. Martin’s 6</a:t>
            </a:r>
            <a:r>
              <a:rPr b="0" lang="en-US" sz="3200" spc="-1" strike="noStrike" baseline="30000">
                <a:solidFill>
                  <a:srgbClr val="18494e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18494e"/>
                </a:solidFill>
                <a:latin typeface="Arial"/>
              </a:rPr>
              <a:t> Grade Comput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18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494e"/>
                </a:solidFill>
                <a:latin typeface="Arial"/>
              </a:rPr>
              <a:t>In Room E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18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494e"/>
                </a:solidFill>
                <a:latin typeface="Arial"/>
              </a:rPr>
              <a:t>Created By Mad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19520" y="838080"/>
            <a:ext cx="3200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dit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9000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0:20Z</dcterms:created>
  <dc:creator>install</dc:creator>
  <dc:description/>
  <dc:language>en-US</dc:language>
  <cp:lastModifiedBy>install</cp:lastModifiedBy>
  <dcterms:modified xsi:type="dcterms:W3CDTF">2010-10-13T17:52:41Z</dcterms:modified>
  <cp:revision>17</cp:revision>
  <dc:subject/>
  <dc:title>Slide 1</dc:title>
</cp:coreProperties>
</file>